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801-DB0D-4101-AF08-412CA2C4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FD8-B5DD-428C-8567-0336F60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DE0-7C3D-42F0-96B1-7B0B659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DDB-9F91-4D69-80A8-744BF387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B80-E253-4991-9F39-B7A679E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063-20FC-434A-A21F-45F75367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87A-DEEC-4F77-8E90-EE9FFA19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762-BA62-4FE4-BF1E-FB135347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195-8693-488A-9699-9781DA9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A36-9D8B-45BA-8602-3F20310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0A1-AC15-47C5-AEB9-C8A96F37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C2C-D839-41CA-8E74-14F401C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54B8C-B900-464E-9FAB-DF7066F9862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6DD4D-1789-460C-AEAD-9A6E8DD959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 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mber Carey, Ben Kloepping &amp; Laura Orti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1417320"/>
            <a:ext cx="4724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Calibri"/>
              </a:rPr>
              <a:t>Energy Production-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ue to its abundance and substantial power, wave energy can produce a significant amount of energy. It is estimated that wave energy could produce close to 16% of the world's electricity consumption.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657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57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newable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completely renewable and sustainable, with no effort made on the part of humans to make sure this cycle contin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9830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itial cost to create and implement is very hig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predictable size and power of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requires a suitable location for suc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disrupt marine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93696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4952880" y="36576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 interfere with commercial and sport fish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73120" y="3657600"/>
            <a:ext cx="3922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s and Wi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nd is the ultimate energy source of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rag of the wind on the surface moves the particles within the water creating wav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1371600" y="3230640"/>
            <a:ext cx="6477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 F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41732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i-submerged tubes linked by jo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joints act as a pumping system, pushing high pressure oil through hydraulic motors, which drive electrical generators to produce electric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64137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08524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673280" y="380880"/>
            <a:ext cx="572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ave Farms Example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 F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ortugal built the first commercial wave far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xpected to power over 2,000 h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in Portugal, United Kingdom, and parts of the United Stat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wavesenergy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csenergy.anl.gov/guide/wave/index.cf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cleantechnica.com/2008/09/24/worlds-first-commercial-wave-energy-farm-goes-live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t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240" y="1417680"/>
            <a:ext cx="4724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upward and  downward movement of the waves is used to create electr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oy converts the motion of wave energy into electr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184720" y="1417680"/>
            <a:ext cx="3502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t’s Us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provided is used in desalination plants, power plants and water pumps. Energy output is determined by wave height, wave speed, wavelength, and water densi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48006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de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youtube.com/watch?v=GSOFV3f39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urbine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waves flow into a chambe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movement of the waves causes air to rotate the turbin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turbine powers the generat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kes electric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youtube.com/watch?v=_9jGis5V5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alibri"/>
              </a:rPr>
              <a:t>Cost- </a:t>
            </a: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e cost of running a wave energy generator is very low giving it a large advantage over other renewable energy sources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876920" y="3575160"/>
            <a:ext cx="4002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No Pollu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Wave energy boasts the advantage of causing little to no pollutio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500800" y="2940120"/>
            <a:ext cx="3186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3:2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27T17:24:09Z</dcterms:modified>
  <cp:revision>24</cp:revision>
  <dc:subject/>
  <dc:title>Slide 1</dc:title>
</cp:coreProperties>
</file>